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30E-80BD-4B76-B88E-E96ADEE2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0D9-59F1-4F1B-B08A-957D3DAC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E952-5EB8-45B7-A536-D60E0671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1A73-7D26-452E-B39A-97EFDE86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D0D1-6D87-4E9C-9E8C-114AFB94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A01-B903-4F3A-8E87-27173562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63B-8248-4ECE-B67F-48CB5D15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4075-185B-44E3-B1B4-0C107708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0A9-9AFD-465A-BAB5-2F38F2DA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5D56-88E5-4DD9-A35A-FE12981E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6DC-DA12-4937-8E84-22B764C0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E85-37B4-40E5-BB40-814ABB8B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EF7A-A678-4CF4-A93A-843D5904961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2863800" y="981000"/>
            <a:ext cx="5956200" cy="22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1547640" y="1484280"/>
            <a:ext cx="351504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5"/>
          <a:stretch/>
        </p:blipFill>
        <p:spPr>
          <a:xfrm>
            <a:off x="539640" y="2077920"/>
            <a:ext cx="4532400" cy="63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6"/>
          <a:stretch/>
        </p:blipFill>
        <p:spPr>
          <a:xfrm>
            <a:off x="250920" y="2708280"/>
            <a:ext cx="4878360" cy="566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7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76120" y="1557360"/>
            <a:ext cx="86360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 بِاسْـمِكَ اللّهُـمَّ أَمـوتُ وَأَحْـيا )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2568600" y="907920"/>
            <a:ext cx="6324480" cy="6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857160" y="1484280"/>
            <a:ext cx="8040600" cy="10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87280" y="2050920"/>
            <a:ext cx="85694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: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رشاد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التخويف من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ا يريدوا الإيما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44160" cy="1168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4"/>
          <a:stretch/>
        </p:blipFill>
        <p:spPr>
          <a:xfrm>
            <a:off x="4930920" y="3068640"/>
            <a:ext cx="396216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5"/>
          <a:stretch/>
        </p:blipFill>
        <p:spPr>
          <a:xfrm>
            <a:off x="434880" y="4581360"/>
            <a:ext cx="8481960" cy="139716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324000" y="3645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عقبات : 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لائكة يتعاقبون علي العباد حرس بالليل وحرس بالنها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عنوان 1"/>
          <p:cNvSpPr/>
          <p:nvPr/>
        </p:nvSpPr>
        <p:spPr>
          <a:xfrm>
            <a:off x="324000" y="5877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يعلم ذلك قبل تخلقه ونفخ الروح ف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6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0"/>
          <a:stretch/>
        </p:blipFill>
        <p:spPr>
          <a:xfrm>
            <a:off x="476280" y="1413000"/>
            <a:ext cx="81914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48040" y="5008680"/>
            <a:ext cx="33526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928000" cy="576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15552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"/>
          <p:cNvPicPr/>
          <p:nvPr/>
        </p:nvPicPr>
        <p:blipFill>
          <a:blip r:embed="rId1"/>
          <a:stretch/>
        </p:blipFill>
        <p:spPr>
          <a:xfrm>
            <a:off x="239760" y="1816200"/>
            <a:ext cx="8724960" cy="44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0" y="804960"/>
            <a:ext cx="9144000" cy="7524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39760" y="40766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بي يدعوهم إلى ربه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784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ووظيفة الملائك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65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يد في الحم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157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عبد ملائكة يتعاقبون عليه حرس بالليل وحرس بالنهار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62080" y="5734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ا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30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و الله المطل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5797440" y="6308640"/>
            <a:ext cx="3095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تع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بالكفار برتب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بو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الكفار بوظيف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نبياء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بعث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داية والإرشاد والدعوة إلى توحيد الله تعالى والتخويف من ا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مما خفي أو ظ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راقبة الله تعالى في السر والعلا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وجو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قبة الله تعالى في السر والعلانية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له تعالى لا تخفى عليه خاف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وظائف الملائك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فظ العباد ورعايتهم وكتابة أعما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 لهم وظائف متعد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غير ما بقوم من خير أو شر حت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غيروا ما بأنفس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طاعة إلى المعصية كان التغيير من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اباً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معصية  إلى الطاعة كان التغيير من الله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ثواباً ل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رادة و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افذ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22986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643280" y="2133720"/>
            <a:ext cx="3673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95280" y="2170080"/>
            <a:ext cx="3168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ت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395280" y="2673360"/>
            <a:ext cx="31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ح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716360" y="2673360"/>
            <a:ext cx="3672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ام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0:20:24Z</dcterms:modified>
  <cp:revision>2043</cp:revision>
  <dc:subject/>
  <dc:title>عرض تقديمي في PowerPoint</dc:title>
</cp:coreProperties>
</file>